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69720" y="3606480"/>
            <a:ext cx="10464840" cy="25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269720" y="3606480"/>
            <a:ext cx="10464840" cy="25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269720" y="3606480"/>
            <a:ext cx="10464840" cy="25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ubTitle"/>
          </p:nvPr>
        </p:nvSpPr>
        <p:spPr>
          <a:xfrm>
            <a:off x="1269720" y="3606480"/>
            <a:ext cx="10464840" cy="117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269720" y="3606480"/>
            <a:ext cx="10464840" cy="25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269720" y="3606480"/>
            <a:ext cx="10464840" cy="25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269720" y="3606480"/>
            <a:ext cx="10464840" cy="25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269720" y="3606480"/>
            <a:ext cx="10464840" cy="25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269720" y="3606480"/>
            <a:ext cx="10464840" cy="25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269720" y="3606480"/>
            <a:ext cx="10464840" cy="25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9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40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69720" y="3606480"/>
            <a:ext cx="10464840" cy="25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269720" y="3606480"/>
            <a:ext cx="10464840" cy="25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269720" y="3606480"/>
            <a:ext cx="10464840" cy="25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269720" y="3606480"/>
            <a:ext cx="10464840" cy="25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269720" y="3606480"/>
            <a:ext cx="10464840" cy="25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1269720" y="3606480"/>
            <a:ext cx="10464840" cy="117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269720" y="3606480"/>
            <a:ext cx="10464840" cy="25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269720" y="3606480"/>
            <a:ext cx="10464840" cy="25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269720" y="3606480"/>
            <a:ext cx="10464840" cy="25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269720" y="3606480"/>
            <a:ext cx="10464840" cy="25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269720" y="3606480"/>
            <a:ext cx="10464840" cy="25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69720" y="3606480"/>
            <a:ext cx="10464840" cy="25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269720" y="3606480"/>
            <a:ext cx="10464840" cy="25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269720" y="3606480"/>
            <a:ext cx="10464840" cy="25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269720" y="3606480"/>
            <a:ext cx="10464840" cy="25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269720" y="3606480"/>
            <a:ext cx="10464840" cy="25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269720" y="3606480"/>
            <a:ext cx="10464840" cy="25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1269720" y="3606480"/>
            <a:ext cx="10464840" cy="117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269720" y="3606480"/>
            <a:ext cx="10464840" cy="25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269720" y="3606480"/>
            <a:ext cx="10464840" cy="25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269720" y="3606480"/>
            <a:ext cx="10464840" cy="25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269720" y="3606480"/>
            <a:ext cx="10464840" cy="25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269720" y="3606480"/>
            <a:ext cx="10464840" cy="25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269720" y="3606480"/>
            <a:ext cx="10464840" cy="25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14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15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269720" y="3606480"/>
            <a:ext cx="10464840" cy="25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269720" y="3606480"/>
            <a:ext cx="10464840" cy="25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269720" y="3606480"/>
            <a:ext cx="10464840" cy="25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269720" y="3606480"/>
            <a:ext cx="10464840" cy="25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ubTitle"/>
          </p:nvPr>
        </p:nvSpPr>
        <p:spPr>
          <a:xfrm>
            <a:off x="1269720" y="3606480"/>
            <a:ext cx="10464840" cy="117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269720" y="3606480"/>
            <a:ext cx="10464840" cy="25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69720" y="3606480"/>
            <a:ext cx="10464840" cy="25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269720" y="3606480"/>
            <a:ext cx="10464840" cy="25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269720" y="3606480"/>
            <a:ext cx="10464840" cy="25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269720" y="3606480"/>
            <a:ext cx="10464840" cy="25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269720" y="3606480"/>
            <a:ext cx="10464840" cy="25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269720" y="3606480"/>
            <a:ext cx="10464840" cy="25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51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52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69720" y="3606480"/>
            <a:ext cx="10464840" cy="25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69720" y="3606480"/>
            <a:ext cx="10464840" cy="25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69720" y="3606480"/>
            <a:ext cx="10464840" cy="25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269720" y="3606480"/>
            <a:ext cx="10464840" cy="117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69720" y="3606480"/>
            <a:ext cx="10464840" cy="25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69720" y="3606480"/>
            <a:ext cx="10464840" cy="25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69720" y="3606480"/>
            <a:ext cx="10464840" cy="25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9720" y="3606480"/>
            <a:ext cx="10464840" cy="25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69720" y="3606480"/>
            <a:ext cx="10464840" cy="25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69720" y="3606480"/>
            <a:ext cx="10464840" cy="25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69720" y="3606480"/>
            <a:ext cx="10464840" cy="25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69720" y="3606480"/>
            <a:ext cx="10464840" cy="25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69720" y="3606480"/>
            <a:ext cx="10464840" cy="25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69720" y="3606480"/>
            <a:ext cx="10464840" cy="25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69720" y="3606480"/>
            <a:ext cx="10464840" cy="25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69720" y="3606480"/>
            <a:ext cx="10464840" cy="25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269720" y="3606480"/>
            <a:ext cx="10464840" cy="117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69720" y="3606480"/>
            <a:ext cx="10464840" cy="25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69720" y="3606480"/>
            <a:ext cx="10464840" cy="25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69720" y="3606480"/>
            <a:ext cx="10464840" cy="25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69720" y="3606480"/>
            <a:ext cx="10464840" cy="25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69720" y="3606480"/>
            <a:ext cx="10464840" cy="25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69720" y="3606480"/>
            <a:ext cx="10464840" cy="25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69720" y="3606480"/>
            <a:ext cx="10464840" cy="25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69720" y="3606480"/>
            <a:ext cx="10464840" cy="25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69720" y="3606480"/>
            <a:ext cx="10464840" cy="25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69720" y="3606480"/>
            <a:ext cx="10464840" cy="25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69720" y="3606480"/>
            <a:ext cx="10464840" cy="25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1269720" y="3606480"/>
            <a:ext cx="10464840" cy="117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69720" y="3606480"/>
            <a:ext cx="10464840" cy="25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69720" y="3606480"/>
            <a:ext cx="10464840" cy="25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69720" y="3606480"/>
            <a:ext cx="10464840" cy="25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69720" y="3606480"/>
            <a:ext cx="10464840" cy="25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69720" y="3606480"/>
            <a:ext cx="10464840" cy="25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69720" y="3606480"/>
            <a:ext cx="10464840" cy="25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69720" y="3606480"/>
            <a:ext cx="10464840" cy="25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269720" y="3606480"/>
            <a:ext cx="10464840" cy="25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269720" y="3606480"/>
            <a:ext cx="10464840" cy="25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269720" y="3606480"/>
            <a:ext cx="10464840" cy="25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269720" y="3606480"/>
            <a:ext cx="10464840" cy="25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1269720" y="3606480"/>
            <a:ext cx="10464840" cy="117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269720" y="3606480"/>
            <a:ext cx="10464840" cy="25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269720" y="3606480"/>
            <a:ext cx="10464840" cy="25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269720" y="3606480"/>
            <a:ext cx="10464840" cy="25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269720" y="3606480"/>
            <a:ext cx="10464840" cy="25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269720" y="3606480"/>
            <a:ext cx="10464840" cy="25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269720" y="3606480"/>
            <a:ext cx="10464840" cy="117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269720" y="3606480"/>
            <a:ext cx="10464840" cy="25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269720" y="3606480"/>
            <a:ext cx="10464840" cy="25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269720" y="3606480"/>
            <a:ext cx="10464840" cy="25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69720" y="3606480"/>
            <a:ext cx="10464840" cy="25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269720" y="3606480"/>
            <a:ext cx="10464840" cy="25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1269720" y="3606480"/>
            <a:ext cx="10464840" cy="117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269720" y="3606480"/>
            <a:ext cx="10464840" cy="25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269720" y="3606480"/>
            <a:ext cx="10464840" cy="25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269720" y="3606480"/>
            <a:ext cx="10464840" cy="25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69720" y="3606480"/>
            <a:ext cx="10464840" cy="25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269720" y="3606480"/>
            <a:ext cx="10464840" cy="25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269720" y="3606480"/>
            <a:ext cx="10464840" cy="25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269720" y="3606480"/>
            <a:ext cx="10464840" cy="25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269720" y="3606480"/>
            <a:ext cx="10464840" cy="25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269720" y="3606480"/>
            <a:ext cx="10464840" cy="25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269720" y="3606480"/>
            <a:ext cx="10464840" cy="25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269720" y="3606480"/>
            <a:ext cx="10464840" cy="25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1269720" y="3606480"/>
            <a:ext cx="10464840" cy="117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269720" y="3606480"/>
            <a:ext cx="10464840" cy="25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69720" y="3606480"/>
            <a:ext cx="10464840" cy="25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269720" y="3606480"/>
            <a:ext cx="10464840" cy="25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269720" y="3606480"/>
            <a:ext cx="10464840" cy="25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269720" y="3606480"/>
            <a:ext cx="10464840" cy="25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269720" y="3606480"/>
            <a:ext cx="10464840" cy="25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269720" y="3606480"/>
            <a:ext cx="10464840" cy="25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269720" y="3606480"/>
            <a:ext cx="10464840" cy="25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269720" y="3606480"/>
            <a:ext cx="10464840" cy="25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269720" y="3606480"/>
            <a:ext cx="10464840" cy="25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269720" y="3606480"/>
            <a:ext cx="10464840" cy="25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69720" y="3606480"/>
            <a:ext cx="10464840" cy="25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1269720" y="3606480"/>
            <a:ext cx="10464840" cy="117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269720" y="3606480"/>
            <a:ext cx="10464840" cy="25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269720" y="3606480"/>
            <a:ext cx="10464840" cy="25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269720" y="3606480"/>
            <a:ext cx="10464840" cy="25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269720" y="3606480"/>
            <a:ext cx="10464840" cy="25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269720" y="3606480"/>
            <a:ext cx="10464840" cy="25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269720" y="3606480"/>
            <a:ext cx="10464840" cy="25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269720" y="3606480"/>
            <a:ext cx="10464840" cy="25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269720" y="3606480"/>
            <a:ext cx="10464840" cy="25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69720" y="5206680"/>
            <a:ext cx="10464840" cy="1460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5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1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2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3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4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5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6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269720" y="7365960"/>
            <a:ext cx="10464840" cy="1828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7607160" y="2946240"/>
            <a:ext cx="412776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65000"/>
          </a:bodyPr>
          <a:p>
            <a:pPr marL="528120" indent="-263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marL="883080" indent="-263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2" marL="1229760" indent="-263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3" marL="1601280" indent="-263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4" marL="1981080" indent="-263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5" marL="1981080" indent="-263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6" marL="1981080" indent="-263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body"/>
          </p:nvPr>
        </p:nvSpPr>
        <p:spPr>
          <a:xfrm>
            <a:off x="1269720" y="1066320"/>
            <a:ext cx="10464840" cy="762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9000"/>
          </a:bodyPr>
          <a:p>
            <a:pPr marL="748440" indent="-387000">
              <a:spcBef>
                <a:spcPts val="6001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1" marL="1234800" indent="-387000">
              <a:spcBef>
                <a:spcPts val="6001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2" marL="1709640" indent="-387000">
              <a:spcBef>
                <a:spcPts val="6001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3" marL="2217960" indent="-387000">
              <a:spcBef>
                <a:spcPts val="6001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4" marL="2737800" indent="-387000">
              <a:spcBef>
                <a:spcPts val="6001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5" marL="2737800" indent="-387000">
              <a:spcBef>
                <a:spcPts val="6001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6" marL="2737800" indent="-387000">
              <a:spcBef>
                <a:spcPts val="6001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2000"/>
          </a:bodyPr>
          <a:p>
            <a:pPr marL="774000" indent="-399960">
              <a:spcBef>
                <a:spcPts val="29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1" marL="1276200" indent="-399960">
              <a:spcBef>
                <a:spcPts val="29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2" marL="1767240" indent="-399960">
              <a:spcBef>
                <a:spcPts val="29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3" marL="2292840" indent="-399960">
              <a:spcBef>
                <a:spcPts val="29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4" marL="2830320" indent="-399960">
              <a:spcBef>
                <a:spcPts val="29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5" marL="2830320" indent="-399960">
              <a:spcBef>
                <a:spcPts val="29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6" marL="2830320" indent="-399960">
              <a:spcBef>
                <a:spcPts val="29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69720" y="3606480"/>
            <a:ext cx="10464840" cy="25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1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2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3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4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5">
              <a:spcBef>
                <a:spcPts val="901"/>
              </a:spcBef>
              <a:buClr>
                <a:srgbClr val="ffffff"/>
              </a:buClr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6">
              <a:spcBef>
                <a:spcPts val="901"/>
              </a:spcBef>
              <a:buClr>
                <a:srgbClr val="ffffff"/>
              </a:buClr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1269720" y="2946240"/>
            <a:ext cx="510516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6000"/>
          </a:bodyPr>
          <a:p>
            <a:pPr marL="61776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marL="103284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2" marL="1437840" indent="-30852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3" marL="187236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4" marL="231624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5" marL="231624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6" marL="231624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892080" indent="-434880">
              <a:spcBef>
                <a:spcPts val="29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1" marL="1438200" indent="-434880">
              <a:spcBef>
                <a:spcPts val="29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2" marL="1971720" indent="-434880">
              <a:spcBef>
                <a:spcPts val="29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3" marL="2543040" indent="-434880">
              <a:spcBef>
                <a:spcPts val="29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4" marL="3127320" indent="-434880">
              <a:spcBef>
                <a:spcPts val="29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5" marL="3127320" indent="-434880">
              <a:spcBef>
                <a:spcPts val="901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6" marL="3127320" indent="-434880">
              <a:spcBef>
                <a:spcPts val="901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body"/>
          </p:nvPr>
        </p:nvSpPr>
        <p:spPr>
          <a:xfrm>
            <a:off x="596520" y="4939920"/>
            <a:ext cx="6032520" cy="3048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6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2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3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4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5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6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title"/>
          </p:nvPr>
        </p:nvSpPr>
        <p:spPr>
          <a:xfrm>
            <a:off x="596520" y="1790280"/>
            <a:ext cx="6032520" cy="3048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60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1269720" y="2946240"/>
            <a:ext cx="510516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6000"/>
          </a:bodyPr>
          <a:p>
            <a:pPr marL="61776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marL="103284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2" marL="1437840" indent="-30852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3" marL="187236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4" marL="231624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5" marL="231624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6" marL="231624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1000"/>
          </a:bodyPr>
          <a:p>
            <a:pPr marL="739440" indent="-36972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marL="1236600" indent="-36972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2" marL="1721520" indent="-36936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3" marL="2242080" indent="-36972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4" marL="2773440" indent="-36972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5" marL="2773440" indent="-36972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6" marL="2773440" indent="-36972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371240" y="40766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Zimbabwe Crisis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269720" y="6527520"/>
            <a:ext cx="10464840" cy="1460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unny Lee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pic>
        <p:nvPicPr>
          <p:cNvPr id="455" name="" descr=""/>
          <p:cNvPicPr/>
          <p:nvPr/>
        </p:nvPicPr>
        <p:blipFill>
          <a:blip r:embed="rId2"/>
          <a:stretch/>
        </p:blipFill>
        <p:spPr>
          <a:xfrm>
            <a:off x="4275000" y="2158920"/>
            <a:ext cx="4449960" cy="334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269720" y="-30492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About the Tension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22080" y="1270080"/>
            <a:ext cx="11760120" cy="819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Corrupted Election: Despite the “democratic” election in Zimbabwe, the election is generally viewed to be the result of violence, corruption, and coercion by Mr. Mugabe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Mr. Tsvangirai wants revote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The two agreed to share power in September (Zimbabwe Deal) to tackle the country's economic meltdown but they have been unable to agree on the allocation of cabinet posts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Many leaders want Mr. Mugabe to step down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019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ffffff"/>
                </a:solidFill>
                <a:latin typeface="Chalkboard"/>
              </a:rPr>
              <a:t>Is this a national problem?</a:t>
            </a:r>
            <a:endParaRPr b="0" lang="en-US" sz="6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939960" y="2387520"/>
            <a:ext cx="1111248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NO, it’s an international issue because...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the disease crosses borders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the systems of government in Zimbabwe are now broken, and there is no state capable or willing to protecting its people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actions must be taken to defend human rights and democracy, and to tell Mugabe “that enough is enough”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7" name="" descr=""/>
          <p:cNvPicPr/>
          <p:nvPr/>
        </p:nvPicPr>
        <p:blipFill>
          <a:blip r:embed="rId2"/>
          <a:stretch/>
        </p:blipFill>
        <p:spPr>
          <a:xfrm>
            <a:off x="2362320" y="1903320"/>
            <a:ext cx="8267760" cy="5945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Thoughts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Heartbreaking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Human Rights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Victims of greed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Unfair in many ways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269720" y="-2667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How it Affects Us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269720" y="228600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May not have direct impact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Human rights is a universal issue that every country and everybody should be concerned of -&gt; makes us realize how fortunate we are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hows the result of the breakdown of economy and politics -&gt; can be a wake up call for Korea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269720" y="3606480"/>
            <a:ext cx="10464840" cy="25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THANK YOU</a:t>
            </a:r>
            <a:br>
              <a:rPr sz="7200"/>
            </a:br>
            <a:r>
              <a:rPr b="0" lang="en-US" sz="6400" spc="-1" strike="noStrike">
                <a:solidFill>
                  <a:srgbClr val="ffffff"/>
                </a:solidFill>
                <a:latin typeface="Chalkboard"/>
              </a:rPr>
              <a:t>and have a nice break :D</a:t>
            </a:r>
            <a:endParaRPr b="0" lang="en-US" sz="6400" spc="-1" strike="noStrike">
              <a:solidFill>
                <a:srgbClr val="ffffff"/>
              </a:solidFill>
              <a:latin typeface="Chalkboard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Where? Zimbabwe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What?                                  Everything - Cholera, Political, Economic Instability, Human Rights Abuse, Water Shortage, Food Shortage, Riots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Who? Zimbabweans (are suffering), Mr. Mugabe in the spotlight, other nations such as UK, International Organizations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Brief Overview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Cholera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1117440" y="2946240"/>
            <a:ext cx="1076976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At least 12,545 cases of cholera have been recorded over the same period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The UN says at least 565 people have died from the cholera outbreak, which began in August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though correspondents say the real death toll could be much higher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198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ffffff"/>
                </a:solidFill>
                <a:latin typeface="Chalkboard"/>
              </a:rPr>
              <a:t>WHAT is Zimbabwe Doing?</a:t>
            </a:r>
            <a:endParaRPr b="0" lang="en-US" sz="6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901440" y="2082600"/>
            <a:ext cx="11188440" cy="746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Health Minister David Parirenyatwa said hospitals were in urgent need of medicine, food, equipment, staff and that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"Our central hospitals are literally not functioning." 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Zimbabwe appealing for international to tackle the outbreak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BUT as recently as last week, Zimbabwean officials had said there was no need to view cholera as an emergency. 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269720" y="3708360"/>
            <a:ext cx="10464840" cy="232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The Problems do not End Here...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" descr=""/>
          <p:cNvPicPr/>
          <p:nvPr/>
        </p:nvPicPr>
        <p:blipFill>
          <a:blip r:embed="rId2"/>
          <a:stretch/>
        </p:blipFill>
        <p:spPr>
          <a:xfrm>
            <a:off x="8153280" y="2089080"/>
            <a:ext cx="4140360" cy="5765760"/>
          </a:xfrm>
          <a:prstGeom prst="rect">
            <a:avLst/>
          </a:prstGeom>
          <a:ln w="0">
            <a:noFill/>
          </a:ln>
          <a:effectLst>
            <a:outerShdw dist="38160" dir="5400000" blurRad="0" rotWithShape="0">
              <a:srgbClr val="000000">
                <a:alpha val="75000"/>
              </a:srgbClr>
            </a:outerShdw>
          </a:effectLst>
        </p:spPr>
      </p:pic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269720" y="-30492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Water Shortage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342720" y="1574640"/>
            <a:ext cx="7010280" cy="7988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63640" indent="-406440">
              <a:lnSpc>
                <a:spcPct val="100000"/>
              </a:lnSpc>
              <a:spcBef>
                <a:spcPts val="36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halkboard"/>
              </a:rPr>
              <a:t>Zimbabwe is suffering from a shortage of clean water</a:t>
            </a:r>
            <a:endParaRPr b="0" lang="en-US" sz="3000" spc="-1" strike="noStrike">
              <a:solidFill>
                <a:srgbClr val="ffffff"/>
              </a:solidFill>
              <a:latin typeface="Chalkboard"/>
            </a:endParaRPr>
          </a:p>
          <a:p>
            <a:pPr marL="863640" indent="-406440">
              <a:lnSpc>
                <a:spcPct val="100000"/>
              </a:lnSpc>
              <a:spcBef>
                <a:spcPts val="36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halkboard"/>
              </a:rPr>
              <a:t>Many high-density areas of Harare have been without water for several months already. </a:t>
            </a:r>
            <a:endParaRPr b="0" lang="en-US" sz="3000" spc="-1" strike="noStrike">
              <a:solidFill>
                <a:srgbClr val="ffffff"/>
              </a:solidFill>
              <a:latin typeface="Chalkboard"/>
            </a:endParaRPr>
          </a:p>
          <a:p>
            <a:pPr marL="863640" indent="-406440">
              <a:lnSpc>
                <a:spcPct val="100000"/>
              </a:lnSpc>
              <a:spcBef>
                <a:spcPts val="36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halkboard"/>
              </a:rPr>
              <a:t>Zimbabwe National Water Authority (Zinwa) claimed that they were not aware that they were running out of water purification chemicals</a:t>
            </a:r>
            <a:endParaRPr b="0" lang="en-US" sz="3000" spc="-1" strike="noStrike">
              <a:solidFill>
                <a:srgbClr val="ffffff"/>
              </a:solidFill>
              <a:latin typeface="Chalkboard"/>
            </a:endParaRPr>
          </a:p>
          <a:p>
            <a:pPr marL="863640" indent="-406440">
              <a:lnSpc>
                <a:spcPct val="100000"/>
              </a:lnSpc>
              <a:spcBef>
                <a:spcPts val="36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halkboard"/>
              </a:rPr>
              <a:t>On Wednesday, the European Commission said it would provide more than $12m (£8m) for drugs and clean water in Zimbabwe. </a:t>
            </a:r>
            <a:endParaRPr b="0" lang="en-US" sz="30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269720" y="8892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What does this do to the Outbreak?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304920" y="2413080"/>
            <a:ext cx="12382560" cy="7035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The degradation of the water supply and sanitation systems are one of the root causes of the cholera outbreak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Proper hygiene is the best protection against cholera 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An emergency clinic is treating about 200 severe cases. Each one needs about 60 liters of water a day. 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Rainy season started, and this will make the crisis worse because the rain water will wash the bacteria into the shallow wells which people have dug to get drinking water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8" name="" descr=""/>
          <p:cNvPicPr/>
          <p:nvPr/>
        </p:nvPicPr>
        <p:blipFill>
          <a:blip r:embed="rId2"/>
          <a:stretch/>
        </p:blipFill>
        <p:spPr>
          <a:xfrm>
            <a:off x="7746840" y="1606680"/>
            <a:ext cx="4724640" cy="6540480"/>
          </a:xfrm>
          <a:prstGeom prst="rect">
            <a:avLst/>
          </a:prstGeom>
          <a:ln w="0">
            <a:noFill/>
          </a:ln>
          <a:effectLst>
            <a:outerShdw dist="38160" dir="5400000" blurRad="0" rotWithShape="0">
              <a:srgbClr val="000000">
                <a:alpha val="75000"/>
              </a:srgbClr>
            </a:outerShdw>
          </a:effectLst>
        </p:spPr>
      </p:pic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269720" y="-711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Economic Instability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343080" y="1130040"/>
            <a:ext cx="7162560" cy="8318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9000"/>
          </a:bodyPr>
          <a:p>
            <a:pPr marL="855000" indent="-402120">
              <a:lnSpc>
                <a:spcPct val="100000"/>
              </a:lnSpc>
              <a:spcBef>
                <a:spcPts val="36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halkboard"/>
              </a:rPr>
              <a:t>Zimbabwe's annual inflation rate has soared to 231,000,000% in June 2008</a:t>
            </a:r>
            <a:endParaRPr b="0" lang="en-US" sz="3000" spc="-1" strike="noStrike">
              <a:solidFill>
                <a:srgbClr val="ffffff"/>
              </a:solidFill>
              <a:latin typeface="Chalkboard"/>
            </a:endParaRPr>
          </a:p>
          <a:p>
            <a:pPr marL="855000" indent="-402120">
              <a:lnSpc>
                <a:spcPct val="100000"/>
              </a:lnSpc>
              <a:spcBef>
                <a:spcPts val="36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halkboard"/>
              </a:rPr>
              <a:t>This year's harvest in Zimbabwe has been the worst in the country's modern history.</a:t>
            </a:r>
            <a:endParaRPr b="0" lang="en-US" sz="3000" spc="-1" strike="noStrike">
              <a:solidFill>
                <a:srgbClr val="ffffff"/>
              </a:solidFill>
              <a:latin typeface="Chalkboard"/>
            </a:endParaRPr>
          </a:p>
          <a:p>
            <a:pPr marL="855000" indent="-402120">
              <a:lnSpc>
                <a:spcPct val="100000"/>
              </a:lnSpc>
              <a:spcBef>
                <a:spcPts val="36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halkboard"/>
              </a:rPr>
              <a:t>The UN World Food Programme estimates that two million people are in need of food aid, and that the figure will rise to 5.1 million, which is 45% of the population, by early 2009. </a:t>
            </a:r>
            <a:endParaRPr b="0" lang="en-US" sz="3000" spc="-1" strike="noStrike">
              <a:solidFill>
                <a:srgbClr val="ffffff"/>
              </a:solidFill>
              <a:latin typeface="Chalkboard"/>
            </a:endParaRPr>
          </a:p>
          <a:p>
            <a:pPr marL="855000" indent="-402120">
              <a:lnSpc>
                <a:spcPct val="100000"/>
              </a:lnSpc>
              <a:spcBef>
                <a:spcPts val="36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halkboard"/>
              </a:rPr>
              <a:t>Unemployment is reported to be about 80% of the adult population. </a:t>
            </a:r>
            <a:endParaRPr b="0" lang="en-US" sz="30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Political Instability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Political instability is exacerbating all matters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Mr. Brown “Government in Zimbabwe was now broken and the state was unable or unwilling to protect its people.”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Tension between Mr Mugabe and Morgan Tsvangirai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Human rights violation by Mr. Magabe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